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1DD-4613-4DDF-9146-BA7F8F3D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061-B941-476E-885D-6E01755F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A6D-8767-4166-A7FB-F38E05CE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A53-0A1C-4011-9024-65C95E85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657-C759-4F1F-BBFE-081E4C72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27C-DEA4-4A50-9B30-CF7F7E31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C80-4CBE-4BFD-A2C1-4EE5E5F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221-96BE-41D9-A12E-65D6E7C6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0CB-67D4-44BA-A1E7-E0254B20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05F-46BE-4E1F-AFA2-D2253E58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49C-3750-453A-A857-C20A51F3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4CD-B67C-4C9E-8A99-3F7F3B2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676-FC7D-4113-98D7-5316AA342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nel Tr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. Bonica, R. Dube, K. Kompella, D. Meyer, E. Ro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Dra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ft-ietf-ccamp-tracereq-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ft-bonica-tunproto-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con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kind of 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s through data plane, control plane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Tunnel Tracing Protocol (G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 and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carries more information than ICMP Time Expired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in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hase discovers top level IP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 details include identifier for supporting 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phase discovers supporting 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hases if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53:34Z</dcterms:created>
  <dc:creator>rbonica</dc:creator>
  <dc:description/>
  <dc:language>en-US</dc:language>
  <cp:lastModifiedBy>rbonica</cp:lastModifiedBy>
  <dcterms:modified xsi:type="dcterms:W3CDTF">2002-11-21T14:01:57Z</dcterms:modified>
  <cp:revision>6</cp:revision>
  <dc:subject/>
  <dc:title>Tunnel Tracing</dc:title>
</cp:coreProperties>
</file>